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D18-7264-45BD-A371-EF5BB4DD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4CF-B6AB-4011-901B-8E1C56B1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9AE-6666-4B2A-B285-3596D6EC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763-FFED-40D4-8378-57E044D6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0A2-152F-4113-9F40-2D31AA4B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2B05-23A6-4EC6-B08A-FE0D5428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3C01-A905-49CF-A547-4C7BF622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FBA8-9CBB-4D44-9AC8-C9164248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61B4-C6A5-42AD-9B96-911FF5F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4C46-AE03-4468-92BD-5F69114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7C78-47FA-4B19-AB6A-E45F390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E75-17F6-4E6B-8700-EF6D1CBC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C594-43A7-4550-86F1-AD33E12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2965-E128-4CB6-903B-EFDDD329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EB47-1809-4C88-B8E2-F59328F8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00DE-B479-44CD-A12E-EA87E8F1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64DF-64C5-4A45-8E9D-B23F4A1E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634-FBD7-4944-8561-4D3F58E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938-A27A-4511-98D4-9767AC86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3A9-E6A0-4F86-882E-B5F78EAA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C5C-8A99-4360-B7A3-A32945E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CB3-DD5F-47DB-A38A-6DE0B59E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975-4D64-4CAF-8351-A468F61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B8D-D954-4ABD-ACFD-84C9254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AE2E-12C6-47C3-BDFD-D63DB932B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5974-E283-478C-BBC2-B18B5D155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The French Revolution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n the Eve of Revolutio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Call for Revol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lergy &amp; nobles want to keep privile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state wants more ______ equ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spirit of rebellion sp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king gathered more troops @___________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itizens feared king trying to dissolve National Assembl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Parisians Storm the Bastille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_____, 1789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angry mob of Parisians broke into Bastille to steal _______ to defend National Assemb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armed w/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freed 7 prison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prison commander &amp; soldiers kill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98 rioters kill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Bastille Prison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rench Society Divided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___–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man Catholic cl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1% of populati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owned ______ of the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income = tit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______ clergy- noble by bir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lived grand lifestyles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_____ clergy- poor background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carried out religious du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2nd Estat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-  ________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__% of the popul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owned 25% of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lived in ____________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inherited land &amp; rented  to _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income = from peasants who lived &amp; worked on their land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worked in government &amp; milit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 Estat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-___% of population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1.___________ – middle clas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educated, enlightened thinker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lived in towns &amp; citie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wealthy, but few political rights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2.artisans/urban workers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low wages &amp; poor working        conditions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*lived mostly in _____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Peasan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largest group of 3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stat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owned ___% of the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lived in ______ area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yments of the 3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stat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_____ to cl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dues &amp; fines to ______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land tax to 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inancial Troubles</a:t>
            </a:r>
            <a:br>
              <a:rPr sz="24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debt b/c _______ &amp; 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wa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expensive cour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lergy &amp; nobles refused to pay ______ issued by Louis XV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banks refused to lend government 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Louis XVI summoned 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Louis XVI Calls the Estates-General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Delegates represented each estate 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couldn’t agree on fair way to 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3rd Estate created the _______ _________ &amp; joined by some reform-minded clergy &amp; nob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met @ indoor tennis court w/deputies from other estat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Grievance Notebooks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uis XVI had each of the estates prepare cahiers with a list of griev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called for reforms such as fairer ______, freedom of the ______, and regular meetings of the Estates Gener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oemakers complained about the high cost of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the notebooks showed the boiling class 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Tennis Court oa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would not disband until had  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a written __________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Louis XVI ordered ____&amp; ___ Estates to join b/c fearfu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feared trouble &amp; called troops around 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0:54:23Z</dcterms:created>
  <dc:creator>Lawrence Public Schools</dc:creator>
  <dc:description/>
  <dc:language>en-US</dc:language>
  <cp:lastModifiedBy>shoyer</cp:lastModifiedBy>
  <dcterms:modified xsi:type="dcterms:W3CDTF">2007-12-12T15:55:28Z</dcterms:modified>
  <cp:revision>19</cp:revision>
  <dc:subject/>
  <dc:title>The French Revolution and Napoleon</dc:title>
</cp:coreProperties>
</file>